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08C5A-673C-4660-A006-72771E2D59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E19D8-CC66-4BE8-92FD-86484DB2A7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Footer Placeholder 4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422F6-D3BE-4FF3-BE25-24B6165343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Footer Placeholder 4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1B2E-46E8-4D64-917F-4B63BE61C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466A-8183-4EF3-8875-A8E62E71A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BC53-7F69-4E3D-B278-FC55A97A6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880A-DC6E-4123-BCDE-9AB271C36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A90BA-FF37-4EAB-B815-B44C5F2FA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E742A-CD0C-44D6-A766-2FC995D78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876DA-ED2C-493D-937F-B6EDE28BB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37366-8AC0-4237-9118-AEE47A47B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C172F-C07D-40A7-AAD3-3CE7752AE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231C3-309B-4357-A2D1-374C7DF00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21930-E25F-4C51-9509-A4268F3B9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023E-0C3B-43F1-8BEB-8F004B3E7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DC007-B608-439A-9E3A-DC62C49A5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4914C-170C-4EA7-B99D-FE2473DB2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67E60-2069-42FF-AA5F-4E77FAA64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32E28-85B5-4C1B-94AB-2799DFD01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5057F-68C4-4BAF-9519-6E1C42F19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BC56-736B-4E5C-B027-31D52DFB9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E194-3888-46C4-A2D8-F2251E9D1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9F0B-0617-4F2A-97BC-CE5A22396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8E61-231C-4A83-B7A8-7A14A1102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7932-E5CF-471B-8701-4EF91C500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578A-FC09-457F-8F77-E58617747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1971-CFAC-447E-B128-8453AB7BA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7e9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D3414-676A-4A11-9904-94EE307818C1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Times New Roman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5260E-12AF-4A19-A816-66BF635C25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89401-936D-4B7E-BBF7-1316321A416C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FEC98-90B9-495E-889F-4116DDD1CC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3"/>
          <p:cNvSpPr/>
          <p:nvPr/>
        </p:nvSpPr>
        <p:spPr>
          <a:xfrm flipV="1">
            <a:off x="-15480" y="0"/>
            <a:ext cx="7740720" cy="3610080"/>
          </a:xfrm>
          <a:prstGeom prst="rtTriangle">
            <a:avLst/>
          </a:prstGeom>
          <a:solidFill>
            <a:srgbClr val="ccccff"/>
          </a:solidFill>
          <a:ln w="0">
            <a:noFill/>
          </a:ln>
          <a:effectLst>
            <a:outerShdw dist="38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ight Triangle 4"/>
          <p:cNvSpPr/>
          <p:nvPr/>
        </p:nvSpPr>
        <p:spPr>
          <a:xfrm rot="10800000">
            <a:off x="4303800" y="-360"/>
            <a:ext cx="7888320" cy="5281560"/>
          </a:xfrm>
          <a:prstGeom prst="rtTriangle">
            <a:avLst/>
          </a:prstGeom>
          <a:solidFill>
            <a:srgbClr val="7030a0"/>
          </a:solidFill>
          <a:ln w="0">
            <a:noFill/>
          </a:ln>
          <a:effectLst>
            <a:outerShdw dist="38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801720" y="2681280"/>
            <a:ext cx="831204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ckwell"/>
                <a:ea typeface="Rockwell"/>
              </a:rPr>
              <a:t>Training of Core Traine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ckwell"/>
                <a:ea typeface="Rockwell"/>
              </a:rPr>
              <a:t>CPG Management of  Diabetes In Pregnanc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Rockwell"/>
                <a:ea typeface="Rockwell"/>
              </a:rPr>
              <a:t>Medical Nutrition Therap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Rockwell"/>
                <a:ea typeface="Rockwell"/>
              </a:rPr>
              <a:t>By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ckwell"/>
                <a:ea typeface="Rockwell"/>
              </a:rPr>
              <a:t>Assoc. Prof. Dr. Barakatun Nisak Mohd Yuso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  <a:ea typeface="Rockwell"/>
              </a:rPr>
              <a:t>Lecturer &amp; Dietiti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  <a:ea typeface="Rockwell"/>
              </a:rPr>
              <a:t>Faculty of Medicine and Health Scien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  <a:ea typeface="Rockwell"/>
              </a:rPr>
              <a:t>Universiti Putra Malays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5" descr=""/>
          <p:cNvPicPr/>
          <p:nvPr/>
        </p:nvPicPr>
        <p:blipFill>
          <a:blip r:embed="rId1"/>
          <a:srcRect l="24844" t="12660" r="40727" b="22364"/>
          <a:stretch/>
        </p:blipFill>
        <p:spPr>
          <a:xfrm>
            <a:off x="9315360" y="2641680"/>
            <a:ext cx="2675160" cy="40402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80808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Rockwell"/>
                          <a:ea typeface="Rockwell"/>
                        </a:rPr>
                        <a:t>Conclusio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1b93"/>
                    </a:solidFill>
                  </a:tcPr>
                </a:tc>
              </a:tr>
            </a:tbl>
          </a:graphicData>
        </a:graphic>
      </p:graphicFrame>
      <p:sp>
        <p:nvSpPr>
          <p:cNvPr id="126" name=""/>
          <p:cNvSpPr txBox="1"/>
          <p:nvPr/>
        </p:nvSpPr>
        <p:spPr>
          <a:xfrm>
            <a:off x="267840" y="1163520"/>
            <a:ext cx="11571480" cy="537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4572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Referral to MNT should be made for pregnant women with these condition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447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t risk of GD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447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e-existing diabe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447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t diagnosis of GD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447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t initiation of insulin therap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447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ostpartum ca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52600" indent="-4572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MNT should be individualised according to nutritional needs and cultural preferenc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52600" indent="-4572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Monitor total and rate of gestational weight gain (GW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ooter Placeholder 1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BAAE9-0B6F-4055-9362-AB8D1791CC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Rockwell"/>
                          <a:ea typeface="Rockwell"/>
                        </a:rPr>
                        <a:t>References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1b93"/>
                    </a:solidFill>
                  </a:tcPr>
                </a:tc>
              </a:tr>
            </a:tbl>
          </a:graphicData>
        </a:graphic>
      </p:graphicFrame>
      <p:sp>
        <p:nvSpPr>
          <p:cNvPr id="130" name=""/>
          <p:cNvSpPr txBox="1"/>
          <p:nvPr/>
        </p:nvSpPr>
        <p:spPr>
          <a:xfrm>
            <a:off x="223920" y="1163520"/>
            <a:ext cx="11615760" cy="537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2560" indent="-58716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200" spc="-1" strike="noStrike">
                <a:solidFill>
                  <a:srgbClr val="000000"/>
                </a:solidFill>
                <a:latin typeface="Arial"/>
                <a:ea typeface="Arial"/>
              </a:rPr>
              <a:t>14. “In pregnant women at risk for GDM, what is the effectiveness of MNT intervention by an RDN to prevent the development of GDM”. Academy of Nutrition and Dietetics. (Available at: https://www.andeal.org/topic. cfm?menu =5288&amp;cat=5698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82560" indent="-58716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200" spc="-1" strike="noStrike">
                <a:solidFill>
                  <a:srgbClr val="000000"/>
                </a:solidFill>
                <a:latin typeface="Arial"/>
                <a:ea typeface="Arial"/>
              </a:rPr>
              <a:t>18. Institute of Medicine. Weight gain during pregnancy: Reexamining the guidelines. Washington, DC: The National Academic Press, 200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82560" indent="-58716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200" spc="-1" strike="noStrike">
                <a:solidFill>
                  <a:srgbClr val="000000"/>
                </a:solidFill>
                <a:latin typeface="Arial"/>
                <a:ea typeface="Arial"/>
              </a:rPr>
              <a:t>41. Crowther CA, Hiller JE, Moss JR, et al.; Australian Carbohydrate Intolerance Study in Pregnant Women (ACHOIS) Trial Group. Effect of treatment of gestational diabetes mellitus on pregnancy outcomes. N Engl J Med. 2005;352(24):2477-2486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82560" indent="-58716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200" spc="-1" strike="noStrike">
                <a:solidFill>
                  <a:srgbClr val="000000"/>
                </a:solidFill>
                <a:latin typeface="Arial"/>
                <a:ea typeface="Arial"/>
              </a:rPr>
              <a:t>82. Guo J, Chen JL, Whittemore R, et al. Postpartum Lifestyle Interventions to Prevent Type 2 Diabetes Among Women with History of Gestational Diabetes: A Systematic Review of Randomized Clinical Trials. J Womens Health (Larchmt). 2016;25(1):38-49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Footer Placeholder 1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A3654-3E13-4E35-BB17-38C6779B7B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1b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2206440"/>
            <a:ext cx="12192120" cy="21286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Rockwell"/>
                <a:ea typeface="Rockwell"/>
              </a:rPr>
              <a:t>THANK YOU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ooter Placeholder 1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1BB50-FB6E-439E-A31A-A98DAD1B57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Rockwell"/>
                          <a:ea typeface="Rockwell"/>
                        </a:rPr>
                        <a:t>Outlin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1b93"/>
                    </a:solidFill>
                  </a:tcPr>
                </a:tc>
              </a:tr>
            </a:tbl>
          </a:graphicData>
        </a:graphic>
      </p:graphicFrame>
      <p:sp>
        <p:nvSpPr>
          <p:cNvPr id="94" name=""/>
          <p:cNvSpPr txBox="1"/>
          <p:nvPr/>
        </p:nvSpPr>
        <p:spPr>
          <a:xfrm>
            <a:off x="662040" y="1355760"/>
            <a:ext cx="10941120" cy="51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t the end of the lecture, you will able to determi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ferral to M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tal and rate weight gai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NT for antenatal managemen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NT for postpartum manag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Footer Placeholder 2"/>
          <p:cNvSpPr/>
          <p:nvPr/>
        </p:nvSpPr>
        <p:spPr>
          <a:xfrm>
            <a:off x="4038480" y="648180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A8759-EAB7-4A00-97CA-C2D7418D01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Rockwell"/>
                          <a:ea typeface="Rockwell"/>
                        </a:rPr>
                        <a:t>Referral for MNT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1b93"/>
                    </a:solidFill>
                  </a:tcPr>
                </a:tc>
              </a:tr>
            </a:tbl>
          </a:graphicData>
        </a:graphic>
      </p:graphicFrame>
      <p:sp>
        <p:nvSpPr>
          <p:cNvPr id="98" name=""/>
          <p:cNvSpPr txBox="1"/>
          <p:nvPr/>
        </p:nvSpPr>
        <p:spPr>
          <a:xfrm>
            <a:off x="275760" y="1263240"/>
            <a:ext cx="11571480" cy="53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2920" indent="-41292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NT should be given to pregnant women with these conditio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447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t risk of GD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447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e-existing diabe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447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t diagnosis of GD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447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t initiation of insulin therap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447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ostpartum car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Footer Placeholder 1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4C4E2-69CC-4368-A2F4-BDEEC6788A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Rockwell"/>
                          <a:ea typeface="Rockwell"/>
                        </a:rPr>
                        <a:t>Recommendation 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1b93"/>
                    </a:solidFill>
                  </a:tcPr>
                </a:tc>
              </a:tr>
            </a:tbl>
          </a:graphicData>
        </a:graphic>
      </p:graphicFrame>
      <p:sp>
        <p:nvSpPr>
          <p:cNvPr id="102" name=""/>
          <p:cNvSpPr txBox="1"/>
          <p:nvPr/>
        </p:nvSpPr>
        <p:spPr>
          <a:xfrm>
            <a:off x="212760" y="1282320"/>
            <a:ext cx="11571120" cy="53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6400" indent="-4410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600" spc="-1" strike="noStrike">
                <a:solidFill>
                  <a:srgbClr val="000000"/>
                </a:solidFill>
                <a:latin typeface="Arial"/>
                <a:ea typeface="Arial"/>
              </a:rPr>
              <a:t>Pregnant women at risk of gestational diabetes mellitus should be offered medical nutrition therapy which includes monitoring of gestational weight gai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ooter Placeholder 1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42561-F87E-48D5-A536-79A305CAA6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2"/>
          <p:cNvSpPr/>
          <p:nvPr/>
        </p:nvSpPr>
        <p:spPr>
          <a:xfrm>
            <a:off x="4038480" y="646740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785880" y="5184720"/>
            <a:ext cx="10604520" cy="916920"/>
          </a:xfrm>
          <a:prstGeom prst="rect">
            <a:avLst/>
          </a:prstGeom>
          <a:solidFill>
            <a:srgbClr val="fbe5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 the local setting, the BMI criteria for overweight is 23.0-27.4 kg/m</a:t>
            </a:r>
            <a:r>
              <a:rPr b="0" lang="en-MY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en-MY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 obesity is ≥27.5 kg/m</a:t>
            </a:r>
            <a:r>
              <a:rPr b="0" lang="en-MY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MY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en-MY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MY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There is no recommendations on total and rates of weight gain for local population. However, targeting GWG to the lower range in </a:t>
            </a:r>
            <a:r>
              <a:rPr b="1" lang="en-MY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able 1</a:t>
            </a:r>
            <a:r>
              <a:rPr b="0" lang="en-MY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may be recommended to improve pregnancy outcome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5" descr=""/>
          <p:cNvPicPr/>
          <p:nvPr/>
        </p:nvPicPr>
        <p:blipFill>
          <a:blip r:embed="rId1"/>
          <a:stretch/>
        </p:blipFill>
        <p:spPr>
          <a:xfrm>
            <a:off x="1058760" y="334800"/>
            <a:ext cx="9782280" cy="4726080"/>
          </a:xfrm>
          <a:prstGeom prst="rect">
            <a:avLst/>
          </a:prstGeom>
          <a:ln w="0">
            <a:noFill/>
          </a:ln>
        </p:spPr>
      </p:pic>
      <p:sp>
        <p:nvSpPr>
          <p:cNvPr id="108" name="Slide Number Placeholder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F8424-0F00-4825-A591-1DFB94183F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Rockwell"/>
                          <a:ea typeface="Rockwell"/>
                        </a:rPr>
                        <a:t>MNT in Antenatal Management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1b93"/>
                    </a:solidFill>
                  </a:tcPr>
                </a:tc>
              </a:tr>
            </a:tbl>
          </a:graphicData>
        </a:graphic>
      </p:graphicFrame>
      <p:sp>
        <p:nvSpPr>
          <p:cNvPr id="110" name=""/>
          <p:cNvSpPr txBox="1"/>
          <p:nvPr/>
        </p:nvSpPr>
        <p:spPr>
          <a:xfrm>
            <a:off x="267840" y="1245960"/>
            <a:ext cx="11571480" cy="53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6400" indent="-4410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MNT provided by a dietitian, SMBG and insulin therapy are effective in reducing the rate of serious perinatal complications and tend to improve maternal quality of lif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6400" indent="-4410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Early nutrition intervention should be initiated at the time of diagnosi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6400" indent="-4410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Pregnant women with diabetes should be given individualised medical nutrition therapy which includes carbohydrate-controlled meal plan and monitoring of gestational weight gai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Footer Placeholder 1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320DC-5897-451A-A4E5-94E6320CB1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Rockwell"/>
                          <a:ea typeface="Rockwell"/>
                        </a:rPr>
                        <a:t>Carbohydrate-controlled Meal Pla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1b93"/>
                    </a:solidFill>
                  </a:tcPr>
                </a:tc>
              </a:tr>
            </a:tbl>
          </a:graphicData>
        </a:graphic>
      </p:graphicFrame>
      <p:sp>
        <p:nvSpPr>
          <p:cNvPr id="114" name=""/>
          <p:cNvSpPr txBox="1"/>
          <p:nvPr/>
        </p:nvSpPr>
        <p:spPr>
          <a:xfrm>
            <a:off x="267840" y="1245960"/>
            <a:ext cx="11571480" cy="53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6400" indent="-4410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The ideal macronutrients distribution for pregnant women with diabetes is not known. Macronutrient distribution should be individualise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6400" indent="-4410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A general recommendation to promote a balance diet of total energy requiremen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6400" indent="-4410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45-60% CH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6400" indent="-4410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15-20%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6400" indent="-4410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25-35% f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ooter Placeholder 1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CEAB0-9ADB-4D03-BB09-C10227992F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75680" y="385560"/>
            <a:ext cx="11742840" cy="66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54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600" spc="-1" strike="noStrike">
                <a:solidFill>
                  <a:srgbClr val="000000"/>
                </a:solidFill>
                <a:latin typeface="Arial"/>
                <a:ea typeface="Arial"/>
              </a:rPr>
              <a:t>The component of carbohydrate-controlled meal plan includ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954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600" spc="-1" strike="noStrike">
                <a:solidFill>
                  <a:srgbClr val="000000"/>
                </a:solidFill>
                <a:latin typeface="Arial"/>
                <a:ea typeface="Arial"/>
              </a:rPr>
              <a:t>monitor total CHO intake using grams, </a:t>
            </a:r>
            <a:r>
              <a:rPr b="1" lang="en-MY" sz="2600" spc="-1" strike="noStrike">
                <a:solidFill>
                  <a:srgbClr val="000000"/>
                </a:solidFill>
                <a:latin typeface="Arial"/>
                <a:ea typeface="Arial"/>
              </a:rPr>
              <a:t>exchange list</a:t>
            </a:r>
            <a:r>
              <a:rPr b="0" lang="en-MY" sz="2600" spc="-1" strike="noStrike">
                <a:solidFill>
                  <a:srgbClr val="000000"/>
                </a:solidFill>
                <a:latin typeface="Arial"/>
                <a:ea typeface="Arial"/>
              </a:rPr>
              <a:t>, household or hand measures as long as it is practical for women to comprehend and follow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954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600" spc="-1" strike="noStrike">
                <a:solidFill>
                  <a:srgbClr val="000000"/>
                </a:solidFill>
                <a:latin typeface="Arial"/>
                <a:ea typeface="Arial"/>
              </a:rPr>
              <a:t>distribute total CHO exchanges according to SMBG, lifestyle and med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954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600" spc="-1" strike="noStrike">
                <a:solidFill>
                  <a:srgbClr val="000000"/>
                </a:solidFill>
                <a:latin typeface="Arial"/>
                <a:ea typeface="Arial"/>
              </a:rPr>
              <a:t>choose appropriate type of CHO which is lower in </a:t>
            </a:r>
            <a:r>
              <a:rPr b="1" lang="en-MY" sz="2600" spc="-1" strike="noStrike">
                <a:solidFill>
                  <a:srgbClr val="000000"/>
                </a:solidFill>
                <a:latin typeface="Arial"/>
                <a:ea typeface="Arial"/>
              </a:rPr>
              <a:t>glycaemic index (GI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954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600" spc="-1" strike="noStrike">
                <a:solidFill>
                  <a:srgbClr val="000000"/>
                </a:solidFill>
                <a:latin typeface="Arial"/>
                <a:ea typeface="Arial"/>
              </a:rPr>
              <a:t>count sucrose (e.g. sugars) intake as part of the total CHO intake (excess sucrose intake contributes to calories and may cause excessive GW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954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600" spc="-1" strike="noStrike">
                <a:solidFill>
                  <a:srgbClr val="000000"/>
                </a:solidFill>
                <a:latin typeface="Arial"/>
                <a:ea typeface="Arial"/>
              </a:rPr>
              <a:t>Non-nutritive sweeteners do not impact glycaemic level. However, it should not exceed the acceptable recommended daily intak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Footer Placeholder 2"/>
          <p:cNvSpPr/>
          <p:nvPr/>
        </p:nvSpPr>
        <p:spPr>
          <a:xfrm>
            <a:off x="4038480" y="646740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5"/>
          <p:cNvSpPr/>
          <p:nvPr/>
        </p:nvSpPr>
        <p:spPr>
          <a:xfrm>
            <a:off x="0" y="5511960"/>
            <a:ext cx="12192120" cy="5205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ffffff"/>
                </a:solidFill>
                <a:latin typeface="Arial"/>
                <a:ea typeface="Arial"/>
              </a:rPr>
              <a:t>Refer to Appendix 3 on CHO food, exchange list and GI di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FA109-60CA-48A4-A06B-3DEA773A27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Rockwell"/>
                          <a:ea typeface="Rockwell"/>
                        </a:rPr>
                        <a:t>MNT in Postpartum Management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21b93"/>
                    </a:solidFill>
                  </a:tcPr>
                </a:tc>
              </a:tr>
            </a:tbl>
          </a:graphicData>
        </a:graphic>
      </p:graphicFrame>
      <p:sp>
        <p:nvSpPr>
          <p:cNvPr id="122" name=""/>
          <p:cNvSpPr txBox="1"/>
          <p:nvPr/>
        </p:nvSpPr>
        <p:spPr>
          <a:xfrm>
            <a:off x="267840" y="1245960"/>
            <a:ext cx="11571480" cy="53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6400" indent="-4410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Postpartum lifestyle intervention includes MNT, physical activity and behavioural modif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6400" indent="-4410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It has been shown to be effective in decreasing weight, reducing insulin resistance and T2DM development in women with history of GD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ooter Placeholder 1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9556A-202A-42B4-896D-ED22D03AC5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05T03:30:34Z</dcterms:created>
  <dc:creator>Norasyikin A Wahab</dc:creator>
  <dc:description/>
  <dc:language>en-US</dc:language>
  <cp:lastModifiedBy>Ainol</cp:lastModifiedBy>
  <dcterms:modified xsi:type="dcterms:W3CDTF">2018-08-20T07:26:41Z</dcterms:modified>
  <cp:revision>89</cp:revision>
  <dc:subject/>
  <dc:title>PowerPoint Presentation</dc:title>
</cp:coreProperties>
</file>